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6987-5B6C-45EF-8673-58ED5CC17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9D1E-88FA-41AA-B96A-B8314C526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3C0D-EFA7-4709-A4D3-0240D8BC4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C00B-943B-467E-A8C1-C9F75C40F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89496-329E-4DF1-B399-5E80E565B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873E0-CD0E-4F73-AE73-75DAFFBA9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7F618-DF58-40FC-A882-033795D36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FD977-CF90-440F-B86A-360CC9B85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35776-31A1-4693-A369-A7BC488BF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30C25-C571-4B56-B9AF-932B89684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D0503-6B43-42FE-A28A-C718C159C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F02D-182A-462A-8D85-383504E8F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B338C-AEBC-43E3-8D93-BFE80D552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ABE9C-9BA4-4441-9E5A-081166141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E2367-AE7A-4397-AFE9-38CB03611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3683E-6F28-40F9-999B-450DDA728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D3C70-4D14-459C-A7F1-CCA741465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F36D-425B-4D28-A1AC-D9D6DA4D2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1C69-F92A-4EFB-B590-108DFBE1D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8DD9-0E41-4BF2-8170-DC6A43700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41F0-47D7-4FF9-B249-C00A52E76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0938-13AC-4578-8AA9-F78E2A542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45EC-A97E-49A6-A0A6-99B62A6EB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1EC1-AD7C-4CDA-9C73-E79C1F1E3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55C94-443C-433B-B642-C205942376E4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BAD2B-C9F1-4E39-B8F6-1A4DF872155C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Practicum’s Wonderful Teaching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y: Nicholas Doyl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Backward Design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3124080"/>
            <a:ext cx="8229600" cy="30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e use it to make sure it is clear what topic we want to addres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orking backwards helps keep things in order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Differentiation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t may had been stressfu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earned that there are 8 MI’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ll must be addressed when teaching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4"/>
          <a:stretch/>
        </p:blipFill>
        <p:spPr>
          <a:xfrm>
            <a:off x="457200" y="235116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Differentiation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ad a good idea of adding music to my clas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urprised that there were so many mor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Desired Result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3047760"/>
            <a:ext cx="4038480" cy="30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iscovered new and different ways to asses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48320" y="3047760"/>
            <a:ext cx="4038480" cy="30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mic Life, IMovie, GarageBand, simple rubric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Desired Result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3047760"/>
            <a:ext cx="4038480" cy="30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ut we all know how we get some of those result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4979880" y="1600200"/>
            <a:ext cx="33750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Reflection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tarted at believing teaching was only done by writing on the boar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ad a fear of talking in front of peopl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nded at knowing that to reach every student, which is my goal, I need to teach in ways that are different from lecturing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ow I have no problem talking with all eyes on me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0T06:38:38Z</dcterms:created>
  <dc:creator>Student</dc:creator>
  <dc:description/>
  <dc:language>en-US</dc:language>
  <cp:lastModifiedBy>Student</cp:lastModifiedBy>
  <dcterms:modified xsi:type="dcterms:W3CDTF">2008-04-10T12:55:16Z</dcterms:modified>
  <cp:revision>8</cp:revision>
  <dc:subject/>
  <dc:title>Practicum’s Wonderful Teachings</dc:title>
</cp:coreProperties>
</file>